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D65-DBCE-4AAD-9849-228E7753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5ED-5366-4C45-9B08-000B4AE8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46249-D489-4911-A3BC-5D6FB209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41D74-11B8-437C-BA85-A7806E1A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D173C-1E78-4E55-8B20-5DE57443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E2A1D-EE8B-4B47-BAC4-A19BCCB8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F461F-57E2-4F49-8785-36671D79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DAE3E-9F2F-4F55-BE5F-119E1BDF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05BA8-C493-4EF7-A8DC-DA7C45F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DDE58-87D2-480F-9F0A-21B90565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8769C-282B-4705-A092-987253C3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EF9EE-7A5B-48BB-B1D6-3D227D17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061-8F39-4478-9CF7-6C6C3020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73D48-FAD4-4855-9216-0A0497B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97597-D92D-48B1-BBBE-693C2439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AD870-43C6-4229-9E43-9DBF8ADC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D0096-D976-4990-9F36-8359F58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54AB8-4B1F-4579-B609-A48E5F2B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841A6-9B5A-47E6-B073-27E077A5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23901-198F-4586-96D8-2AA0C97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2DDAD-C43C-41EB-A01E-C35C46A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62C12-295A-4A17-91AC-904A21A1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7A653-EA44-411E-9F43-3854F513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DC9-A2E6-46FE-BD7A-A6FF89E0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FC003-0458-4D2B-8184-8193CBED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446B5-9606-4CF1-9458-97C18DD7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874B1-F98C-4E1A-A50C-DD6748E5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C62BA-7BD5-44B1-AF83-817385C0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14C12-666A-41ED-A3DD-68DAF74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AF372-F942-4B24-BFBF-C63B985A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7A336-3C0E-4FB9-9781-C841EA8A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363CC-BCD1-47B3-9A47-BCEA3149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44437-3052-47D9-BD04-3D8FAD4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6C353-9C35-4BD8-A550-64443415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164B-3813-4966-91C4-019BE5B8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53366-824E-4FEA-A533-C6DF9903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C81A4-CADA-4949-A2C3-6B49ADD7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09D59-4F38-4B59-9040-C4E36D11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05B2B-80EB-4050-8722-65B50B52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7AF5A-2A73-4D72-80D2-5D858211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1B0F0-0033-47E8-9319-F0CCDCA3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66456-20B7-4C53-8B80-06E14E3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9770A-87E6-4E29-B079-EDAEBC29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8ECED-AAAF-4ED3-A791-70834AD2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F05EA-1929-4858-ADCC-6535D14B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6A12-545C-40D2-8853-85AA7DE3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7144F-C5E1-4F1D-91A2-CC0ED944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513A7-2A0C-4B44-A1CB-84839427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0FF47-F371-4A61-920C-5F484A56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3350E-B098-417E-9286-E4363EC2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88CFC-874D-456D-A605-0BBD58FC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DB6AA-EBBA-41E2-839C-C2900C36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35DDE-2003-4BDF-899B-0737111C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5FDED-F76A-4CA3-9429-572A2A1B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FC954-E4F1-4C1B-8257-8B1CA350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A8882-AC54-4A47-BE59-2F8DF510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4D0A-3F1D-48CC-B1A2-2770BEC1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E28D3-D79D-4DE0-B831-958A7B20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341C4-4A47-4D02-9DB0-BAFBE4F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2A928-4478-4DE1-BDE3-95183FC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C313D-E862-445A-A9EB-498C4CAF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57A89-0149-4E19-BBF8-84A21424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8B490-F71B-4C03-A569-EB311F53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C9856-7859-4712-BD1D-ACACBBB3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9EE91-A76F-448F-A7D6-45D1A2DF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6EBF5-79A8-4EDA-B513-56FB900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742C3-CECB-4A09-B40B-D76D60BD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BB6C-5EA7-4906-AF6F-E9B0F313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04C59-A67D-4448-8729-46445720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5E834-67BC-44D4-B35B-178150D8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BFA43-0432-40D6-BBB3-86372EF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10002-80DC-405C-AE89-8352D7B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08C04-5C4A-4DB6-8E6E-F73D6B7D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1F76B-E4AD-4C87-A959-87EAF07B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27A11-9085-4758-8760-BF381B1E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5BE6B-26E9-48A3-8247-C57F608C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388CA-80DC-44CE-B222-3D0FC4E7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CCD4A-4C80-4F9D-AAB7-39456EE4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575C-DD8C-4022-8C1D-09D09B25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7EBF6-92BA-4B3F-91C8-BEF90E3A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8DED3-9BB2-4739-B405-6A6B3FC1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05F9D-9984-4546-8C3F-D416ABAA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5FCB7-2ACC-4835-A321-C0C38FCD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88564-A997-482A-927C-8A9D45F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61CDC-9A9F-4876-825F-D4C9FA2F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0A2FF-6A72-42FE-8E36-22D44345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4029C-DB59-42D9-BD42-26CF0AF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17AED-6447-4635-8E74-07A11865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C77BE-8808-44A0-A42E-7CE369AF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8234-3481-4996-9CAE-D72DDA83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EE481-FC26-4C3A-B7E1-EFA0C279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C2458-ED35-4FBC-942F-7B7A35BA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ED305-7DAF-43F9-A52D-FA932686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75F5B-4981-4938-8564-EEC58C96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146DD-7095-4A92-A1B7-5AA450D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303E4-9BBA-40CE-91E8-133D8432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8716B-8960-4A7F-98D9-720FAFC1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61A5F-8B7E-4D38-B0A5-E269A7A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8B42B-3CBE-46DF-BDE3-117AB214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F7815-ECED-473A-9AA6-1B638E8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7420-7A25-4E61-81EA-3D0AE103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E0FC6-17C9-465C-BA9D-14CAF6A6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FD286-14CD-4CBB-89DF-E9BB5A03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64976-C8F9-4FF2-A1A2-E1E46ACA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523445-9F38-4F46-831B-8C1F9FDB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9D408-D952-444F-B252-A0EC0D97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0DA6D7-3F1E-482F-A7A6-7F0EA59E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FCA64-F4D0-4B15-9DAE-B7456B67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733E9-066C-49F6-8B4F-30EB35CE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55624-955F-4AD0-9071-E09BD12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ACDEF-5417-450B-855F-0C2D9C35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A23-4582-48CF-918B-E07FC354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AA0D-30CE-49DC-A272-A1EC3F6A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85822-CFAA-4EE0-833B-003AD78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A7D7B-BCD0-4366-87CB-1E0DE028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A8EC0-2679-498A-BE18-FAB3C5B7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94732-2FA6-4AF7-9885-021B74BE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75780-6A09-4758-B328-67C168B5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14BBE-C380-498F-904A-D70FE545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599A0-F40F-4A2A-A80A-89FC023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DD23A-5981-4EBB-B14D-CC3892BC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20F7D-A007-4D14-BAAE-597C19AB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31B32-C4C7-4E75-9BD4-C72CCC6B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F165-C9D8-4926-87ED-E8AE3E1B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75DC0-3752-435B-8A26-324140F8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54CD9-8330-4385-A311-4F4ABCAE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0881AA-2A33-4C55-B7B0-05C9ECA4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86BEB-6EF9-4AA5-83D4-471E8B43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7143AE-AF35-45B3-9282-956CEF1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BBD51-E96A-4F79-80BA-0AE05E55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E62D5-6DAD-464F-820F-C960110F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22B72-0C2C-4084-B5FA-2793CC3A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D3BF7-E3F2-4A23-A4F3-2A75C2BF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99F68-54A1-4859-AAE1-98A9D4A8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7245-27D9-405B-9D0C-FEA77A45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92EBA-07A7-430A-8215-C9D52445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DEF62-532A-4092-B249-20BCFEDA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D9652F-5C72-48CE-A161-3B27BD56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96756-53B8-4530-A211-5A9CE305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50ED1-10E7-4160-BB55-72989D1D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62905-E24D-493C-BEDD-695A149E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1EE5D-C7D6-4253-B7B8-1E9CEA7C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7938BC-F66C-45F7-B994-0581B943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8BF3D5-86D6-4F01-93B7-C2497B8B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7D59E0-EA3A-498D-9020-D17D5068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0F16-F14A-4D34-AD84-7D401785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B60A2-7002-4D86-9738-11CB46D3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121CA-E840-4035-BD85-28246882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CDB2A-10EF-4549-A010-550B330A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65C17-D413-4836-8B70-FBB0C970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50208-E79D-4828-9451-B6BD9D67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44B58-993A-4945-A42A-6642455C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3C204-2907-47C4-BB53-262F482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A45337-A715-4F56-A829-64B0518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9886B-7BEF-4795-867C-46F8F24B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689AC-FCC5-4B2D-814B-E097CB91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5EAA-3727-456B-A3DA-9071C1DB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F07836-3FA1-4214-9605-8CC6518C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7066F-D8CD-427D-97E3-50D13896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3AA19-E46A-48E5-A3B2-E528F2B0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1B497-09FB-4940-845D-321540F9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6F14F-10F6-4C7A-A482-3221CC4D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5DCD5-611D-4576-A08D-DB97E71D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CE2BF7-C93D-4FC8-A376-FDA28A98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D7A77-AD9D-41FE-B067-50E0458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BEFEB8-4AA2-481F-979F-C1AA589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3FF59-C79B-4152-A0AE-8755862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2A79-C373-45DC-8394-8BAB54DF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5ABA43-6DE0-4F12-800B-89CFB9FC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6D04F1-D260-416A-8508-3B84A5CB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536AF-4362-4710-BBF6-ACC8F5A6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BD16DC-E4A9-4CE5-8236-F26E4481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0D4BE1-688D-4516-8CF2-A7775C00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ADF177-0F69-4E5E-80D0-8A3FA291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FE7235-71C7-4AE8-9A90-06D3128D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C9CF9C-0154-41A1-BFF1-F4D04FF2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D70A25-5097-4767-BACF-4D79C5FB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0ACE2B-351C-44F9-8F16-AB6BDC86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05D0-E8A1-431B-82EF-3E173C85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397CF-494B-4EE3-BE5E-62310724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C3BA6E-B887-4BBA-A5DB-08E13FD6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FD417E-9533-4DD4-A881-42FF961D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49CD1A-4759-4656-AEAB-9405C2AA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34B39D-C02B-4AB8-8899-C01E17E9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5BC4FC-1070-40B1-8EDC-574244C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065A23-7251-4919-A85F-50EDC3FB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52346D-7935-4882-8B63-513AC252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DC54C8-6022-4BC3-A87F-B071C067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43FD73-8145-45F8-8B27-2EAFEDB8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1D93-46EA-4706-8701-29ED8A0F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23B2F3-6F65-4BC0-B1E1-B2961322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14C392-A83A-4E7B-A7A5-09FCC1C1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386F7C-BB22-4547-8458-EEEA4CC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4F7C2A-30D8-4BF4-A2ED-AFFF2EF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8F8716-1188-4DBA-9DFA-D6AB15FD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6C51A1-6D26-4846-B3D5-B582DA7D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F1ED88-8452-4315-A443-D4AB2D16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A21A-A747-478B-B65C-B5F7FA07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07D1-BA80-4387-B794-04BF939F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98B-6D66-4C1C-899A-A56234F2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C432-0F80-4E3B-A900-0DBF4548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34C92-20D3-46C6-99CA-89881E3C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DB33-0B7B-4E30-BFD7-1F23421D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8884-759D-43F5-AAC5-D7BCA01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E8E9-6FA4-4568-A7BC-F1216D6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3E41-9032-427D-9542-DC9B6ED1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898C-6C14-4C82-9071-3CB44444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24AC3-8432-4FF4-A125-7B11A017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27D1-9E62-4FD3-8B68-2D5E4570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3589-39A6-4E36-9434-C00F78CE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254-FC25-4170-A311-BD507A4C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D073-7FC3-4F8B-B3CA-E5E2AE70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44456-0D81-460B-BA23-DDA3855A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B877-C10B-4E59-BB6B-5052E400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F91D-1EC9-4F07-9109-03607F35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39A04-CB7C-4C0A-87FE-467D6A9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675F-E0C3-4E0C-B699-57690424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B866-4F98-455F-B53B-ABCFF5EE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A3DB-7FFB-4299-8603-1DC03A8E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A43D-7FCD-49D3-8A1C-535084C3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F037F-CFE2-42B9-913A-0E4A8B62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BF3-8BA6-43F6-BDAE-652BE42B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AAB57-5C05-41E1-8A66-871092F4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4F74-BB12-4E0F-9746-77BE343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3408-1822-4D4A-81E9-77BBB144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A556D-D648-4AD7-83C5-0CF2686A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8170D-81A8-4B77-891E-A6BDB3CA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D2353-95E9-410F-A638-52E848C1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A8615-315B-4803-A89E-C4A2A1C1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F26CF-1168-4023-9F91-6EA9106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7A1A8-12EB-40A6-9F24-E4A0AB13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C5281-585A-4D22-BA62-438B051D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AAE-7F77-4F0B-946B-FF727C3A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96E33-315D-4653-A309-8867A460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1B7A0-6658-4953-B31D-79A2929F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1AF59-122B-4AF1-949C-3A298624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E4673-55E8-490D-BECC-C068EDBD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6E5A5-017A-4893-ADCD-45CFC22B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56B1-A040-43FB-89F1-156149DA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76D30-FC45-4DEE-8160-31E08EA3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5815-1ECC-4EF4-9DB4-3BCBAAE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D42CE-33E8-424E-96CF-C5DEFE9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00391-A875-4F23-B4AB-211F75C5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A06-E20A-4D58-A222-61D1229C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05A97-20DC-4546-AA22-1AD4E3B6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CAAC-3992-4D86-BA83-D386C2AF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9529C-7D04-4692-8244-9C92F49E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AACB6-5F09-43FD-B5C6-978BBD0A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E773A-77B8-4BA2-BA0F-BB4C1E7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2CCE-3C39-4A3E-9E18-E07464C7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B63F7-2EB8-4220-9485-1DEB145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7FA8-DE61-445C-8579-04257EDE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838A3-09F1-4E69-B56A-96BFD5C9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25DA5-FB30-4051-B43F-3BEA266E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331-03B9-4A23-82E8-057ACD1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1136-E9FA-4D5D-82BF-388A7B0D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8B0E5-699F-4E29-AB63-9884464D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EB96B-9C23-4AC6-A03F-5FC4CB96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E8CC0-68D7-4710-A3A0-E0EB8A19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2EAB-19F8-46A2-9559-B9733EE9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1D42-A5A6-4CEB-907D-13629CAD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650E-886E-4286-B40E-6DF824A5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2B81E-564B-4CB0-B1CF-CA52E6FF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BC8A6-74F2-40E4-A7F9-0DC92555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334BF-10E8-4093-BA45-E16FAFB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048-71F1-42B7-A00D-32B13E89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FD12B-3F4B-4324-9532-C2375408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46BA3-0876-45CA-93C4-6A1A7A1C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33779-41E0-4D50-B50A-B6EAF1FF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3BFBC-B144-49D4-82E2-7493B14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F6E27-90E7-44A2-941A-FA0EE394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2F0AC-D08E-4688-BDF4-805C7899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976B3-4FCC-44F5-923D-510D3C9A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EDD25-5A27-445E-8516-699CFE51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2BED8-F07F-4A25-9F98-DBD33E9B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9068C-E308-41DC-9431-D9AEB523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D321-A732-412E-8821-0FC2D225E5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2CF5-F429-4B37-BC06-1F211158EC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5308-8BB0-49B5-93AF-9CFBD0426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B91B-560D-4B1F-8E07-0E864CC7D5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C2DF-16E1-4E6E-B49D-F8AA253A5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688D-6C05-41AB-848F-5131638135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14D9-CE44-4F7A-A0A7-FC9157369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BC9-1515-45B3-89E1-D25E380E5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BD96-1056-4CC4-9158-42FA913A0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DA26-1BD2-4A19-ACC7-A7AD6D4A6E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0DC5-F29D-4C5C-AADB-5A0DA4A341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CEBF-F687-4170-B1CB-4AFD5643A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B25E-BC4A-4464-AE87-4394DC45F8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74F5-B2F8-491C-B839-0453862787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0B4-169C-4B6D-849E-1A328C1805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F1AB-1465-4A60-8E7C-A0620253F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F02E-D827-458C-8D8F-3FD82AF821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452C-9E15-4109-ACE1-420A20ED95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FE7E-B46E-4A28-9AB6-360C5AE90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64B7-5DA3-4E10-A80B-AE00E45EB5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A9C3-F532-4883-BBBF-1E10379E4B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9417-26CF-4788-9C8F-3959BF05E2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A974-B624-44E1-B81E-77B7E715D6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32A5-16E0-4FA8-A8CE-3A9065AA5E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7310-EEFA-442D-88C7-4457C25959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F028-423E-47DE-A65E-BCA4343E82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B074-8916-4004-A836-481EAF102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9A66-321A-4EB2-A8EB-B5FE095E35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2D4D-5D45-451E-ADAC-2050747655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2AF4-542B-4E03-8FB4-0FF65A73E3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CCDA-05BB-4CBD-A124-2F18FC5FF6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33E8-AD83-4175-B960-4F9589AB0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7A60-FA8D-4E10-9A49-9855F0408B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DC08-DABB-4B83-80FB-10DFC9AAA0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4D18-8023-49F8-8D2C-B0717A1F88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6824-FD97-4D9D-85E2-EEBD9CDE96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A948-6873-41BE-8E36-79B897D82A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A7F9-514F-4FE5-994F-CAD8F3AAA8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C8BA-9393-452E-B774-5243C2E818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3E11-D66C-4AD7-A234-DD81B8394E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FB4D-B104-47D9-8919-1B2A455E8D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A2F-7EA6-4691-9CF3-A4516DC99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62000" y="2978280"/>
            <a:ext cx="88200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52560" y="966960"/>
            <a:ext cx="9038880" cy="4924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6070680" y="41338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1706400" y="50706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7034040" y="5041800"/>
            <a:ext cx="6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298440" y="968400"/>
            <a:ext cx="8547120" cy="186696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1098720" y="3570120"/>
            <a:ext cx="7124400" cy="2219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059280" y="142704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059280" y="191628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508720" y="148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6084720" y="191628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8244000" y="14698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8186760" y="19749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2700360" y="4149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0"/>
          <a:stretch/>
        </p:blipFill>
        <p:spPr>
          <a:xfrm>
            <a:off x="2843280" y="47973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1"/>
          <a:stretch/>
        </p:blipFill>
        <p:spPr>
          <a:xfrm>
            <a:off x="6732720" y="4149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2"/>
          <a:stretch/>
        </p:blipFill>
        <p:spPr>
          <a:xfrm>
            <a:off x="5622840" y="4797360"/>
            <a:ext cx="11098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619200" y="1319040"/>
            <a:ext cx="7905600" cy="4219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03280" y="43070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722920" y="43070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867280" y="5013360"/>
            <a:ext cx="302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42960" y="1004760"/>
            <a:ext cx="7858080" cy="4848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932360" y="184464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003640" y="2565360"/>
            <a:ext cx="32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971640" y="460836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1042920" y="530064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8"/>
          <a:stretch/>
        </p:blipFill>
        <p:spPr>
          <a:xfrm>
            <a:off x="5148360" y="465300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9"/>
          <a:stretch/>
        </p:blipFill>
        <p:spPr>
          <a:xfrm>
            <a:off x="5219640" y="537372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552600" y="785880"/>
            <a:ext cx="8038800" cy="58863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619280" y="541656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1619280" y="6165720"/>
            <a:ext cx="42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42920" y="1262160"/>
            <a:ext cx="7058160" cy="43336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547640" y="4206960"/>
            <a:ext cx="36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692360" y="4941720"/>
            <a:ext cx="36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223920" y="1290600"/>
            <a:ext cx="8696160" cy="4276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3247920" y="328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6012000" y="32702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4110120" y="48974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7553160" y="4869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619200" y="1824120"/>
            <a:ext cx="7905600" cy="3209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72436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3708360" y="43228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7278840" y="4292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95120" y="1152360"/>
            <a:ext cx="8753760" cy="4553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332000" y="351468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403280" y="416412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476360" y="4869000"/>
            <a:ext cx="431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200240" y="1919160"/>
            <a:ext cx="6743520" cy="30196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835280" y="298116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908000" y="3645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2050920" y="4335480"/>
            <a:ext cx="38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3:0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